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F557-3F44-45D1-864A-2B50AC65F9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6E17-6AF9-4DEF-AFE4-E449D4087C3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4515-C904-47DC-9916-410A1B45C28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2D4B-742A-458B-BCAA-F41CDB2F281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205F6-0B3A-4140-9005-4901C50E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7F5F6-91C2-4D39-B220-2DC10DD5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004DB-FB97-448B-AE85-ECF3577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EAB9D-8EFC-487F-B787-6EF67861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9BC3-583F-4B1C-AC91-A6DFC672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888E-21F2-4A0D-8826-5FFF611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8008D-C7F7-43DE-8894-8532FF85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6BC3-F73F-4270-AB9E-F3042BC6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AAC4A-0FDC-49DC-931A-A835C45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02C4C-1A64-4D17-9620-D763C44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5FC07-1D35-4F4F-A904-10B5E2BE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D421E-80A4-450C-9AB4-3416AFE2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EA4DD-5711-42E6-B360-1E12B5EC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0D8AF-2DC1-4FF5-BD2D-0E7FA5E6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8146B-1971-4381-9FF1-C52B2836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D2B42-2B9D-4629-8B2B-95CD7680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14630-A137-45BA-9221-33FDF65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7BED4-11FB-4D8A-BA82-FC44E0FF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4D51A-80EB-4847-B108-C42EB9E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C381C-AAAB-4E95-881E-B51E020F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62960-5D97-4FD6-B384-4E5D0AA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FBB18-DA04-4717-A8BF-C3F7B6F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F9754-D4FD-4F50-A0C5-37B84D4A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D1787-8464-4BA3-B28C-9D7E847F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490-6089-498F-8728-C99D08B782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5F33-C382-4275-9794-BCC9914E5D2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2677-60A2-4CBF-8D3E-1E7083DA0C2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ABAC-12E7-442E-AAAE-7D236905064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95E-0BEA-4272-84B9-2B7443DEEE5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0343-1BD9-4C57-9C6F-BD18E9AC3EE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C6CC-A65E-434D-B006-BF4FBAC07C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98BC-DB84-4ADD-80B3-457B48D148D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8B7E-5718-407A-B24A-0F55D48F71A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8577-AFA9-405F-9EEF-5858D20670B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 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99680"/>
              <a:ext cx="8644320" cy="32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의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의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880"/>
            <a:chOff x="0" y="0"/>
            <a:chExt cx="9501120" cy="641088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04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35848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600"/>
              <a:chOff x="285480" y="3572280"/>
              <a:chExt cx="8643960" cy="283860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의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 참여를 관망하며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49560"/>
                <a:chOff x="213840" y="928440"/>
                <a:chExt cx="8930160" cy="124956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4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 거주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16480"/>
              <a:chOff x="285480" y="785520"/>
              <a:chExt cx="8715600" cy="531648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5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하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개인생활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369120"/>
            <a:chOff x="71280" y="357120"/>
            <a:chExt cx="9001440" cy="636912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5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369120"/>
              <a:chOff x="213840" y="357120"/>
              <a:chExt cx="8787240" cy="636912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62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천여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율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4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이 많은 노인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 동거하는 비율이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주택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71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지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옥탑방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이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비용 과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구조 불편 등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해 주거편이도와 만족도가 낮은 편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ADL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 노인의 주거만족도가 상대적으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2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108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뷸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8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의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2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286320"/>
            <a:chOff x="0" y="0"/>
            <a:chExt cx="9144000" cy="628632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428840"/>
              <a:ext cx="8501040" cy="4857480"/>
              <a:chOff x="357120" y="1428840"/>
              <a:chExt cx="8501040" cy="485748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428840"/>
                <a:ext cx="8501040" cy="48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880"/>
                <a:ext cx="8286840" cy="455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시설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이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사회보험제도 방식의 운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국가지원방식의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3:50:21Z</dcterms:modified>
  <cp:revision>34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